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360" y="-11095560"/>
            <a:ext cx="360" cy="235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DB6-58A9-4AAE-8FAB-545898EF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C14-B4C6-40F3-9436-3E55A63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BDF-072F-44D0-ABCF-863001E6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48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48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5C8-2729-4C29-A972-AB57437B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71EA-07BC-414B-8466-9208AA61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709-1006-496A-8225-354B0A5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4E3-3C37-4A44-B182-18E9658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CD0-3616-4AE1-8897-E15EBFAD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55F-8140-4952-9871-043BD32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100080"/>
            <a:ext cx="79790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DA72-8999-497A-AB3D-E59FCD4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193-47B8-4445-8647-56E6C16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291-67F2-42D1-B6D7-411271B4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9D83-E7B3-4529-B489-B380CC5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DA4F-AC0C-46F4-8038-A071E57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CA9-03D3-4AEE-9B01-B61181E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FA5F-133C-4740-A1B0-FEFA623E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1D40-D619-4C66-8A2E-A175CE68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B8E-ABA6-4547-83F7-C928BA1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C66-D62E-45CF-9135-BF9F763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C94-081C-4C33-A75E-A93B04F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100080"/>
            <a:ext cx="79790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FBE-94E8-461C-9E37-9C0F2DD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FA5-1212-4BAE-B770-C09C4EA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437-5914-43DD-8517-A857C49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77F-FCEE-4D2D-B3EA-3E3CB16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714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7180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59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73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59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C87344-92FD-4629-8EEA-CFBCEF3F96A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39600"/>
            <a:ext cx="775008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82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735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82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7B9927-EB0E-4250-9C2F-301E898C7E4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72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714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7180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ções financeir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diferentes variáveis assumem valores dentro de determinadas amplitudes; estes valores são os que, à partida, se pensa serem os mais prováve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in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variáveis mais significativas são identificadas assim como a sua possível gama de variação. São estimados, para cada variável, os valores mais prováveis de ocorrência e as probabilidades de ocorrênc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892600" y="1752480"/>
            <a:ext cx="3349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e Benefíci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álise da rendibilidade empresarial deve ser baseada nos custos e benefícios que os projectos originam, envolve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identificação da quantidade, qualidade e cronologia do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inpu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outpu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ís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tribuição de preços apropriados aos consumos e produções para ser possível calcular os respectivos valores de custos e benefíc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e Benefíci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orçamentos ou mapas previsionais (elementos de base para a análise) onde se comparam os custos (de investimento e de exploração) e os benefíc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medição dos resultados utilizando critérios que dêem indicações sobre a rendibilidade e eficiência económica do projecto em termos absolutos e em termos de comparação com projectos alternativ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s e benefícios d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benefícios correspondem ao valor dos recursos libertados pelo projecto, ou seja, ao valor dos recursos recuperados mais a compensação que resultará em virtude da desutilidade enfrentada pelos promotores ou pela comunidade, em consequência da aplicação dos recursos que o projecto utili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duzem-se nos proveitos que o projecto gera ao longo das sua vida útil decorrentes do valor das vendas e outros proveitos contabilizados na conta de exploração previsional e no valor residual do investimento no fim da sua vida út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s e benefícios d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de investimento são os valores monetários dos bens usados, correspondentes ao capital fixo corpóreo, incorpóreo e ao acréscimo de fundo de maneio necessário para um adequado funcionamento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de exploração ou de funcionamento correspondem aos consumos intermédios e serviços utilizados na produção, como sejam, as matérias-primas e subsidiárias, energia e combustíveis, despesas com pessoa e outros contabilizados na conta de exploração prevision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(Encargos) Fix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am da mera existência dos factores de produção fixos que constituem o aparelho de produção da empresa, sendo o seu montante independente dos serviços por eles fornecido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custos fixos são aqueles que, como a própria designação indica, se mantêm constantes em cada ano, independentemente do grau de utilização dos bens que lhes dão orig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amortizações das máquinas são exemplo de um custo fix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(Encargos) Variáve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seu montante depende do nível de aplicação dos factores de produção a que se referem; estes custos serão inexistentes se, por absurdo, o empresário decidir não produzi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custos com combustíveis, matérias-primas e trabalho eventual são variáveis, uma vez que o respectivo nível de aplicação pode variar de ano para ano, dependendo dos quantitativos de produção que se obtêm ou pretendem ob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Mapas financeiros previsiona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monstração de resultados (conta de exploraçã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monstração de fluxos de caixa (plano de financiamento, saldo de tesouraria, plano financeiro, mapa origem e aplicação fundo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lanç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h-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ao Invest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stem na descrição dos diferentes investimentos previstos no projecto, na determinação dos custos que originarão e na definição dos seus prazos de implementação (do escalonamento tempor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ao Financiamento dos Proj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stem na descrição e determinação dos diferentes fluxos financeiros associados à realização do projecto e no seu escalonamento tempor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iclo de Vida ou de Planeament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concepção e de formul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ecução ou re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ploração ou funciona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tin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à Exploração dos Proj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istem na determinação dos diferentes benefícios e custos anuais previstos com a implementação do projecto e no seu escalonamento temporal ao longo do período de vida út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escritivo caracterizador dos investimentos a efectuar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apa síntese dos investimentos em valor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alendário (ou cronograma) de execução dos mesm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evem incluir a determinação de investimentos de substituição e dos valores residuais que os capitais assumem, em especial no termo do período de vida útil do projec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inanciament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em a estrutura do capital - capital social, empréstimos a contrair, etc. e determinar as obrigações financeiras decorrentes do mesmo - juros, quotas de reembolso e outras obrigações financeiras -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lano de financiamento a médio e longo prazo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grama de financiamento a médio e longo prazo tem, pois, de considerar também os benefícios e custos anuais de exploração originados por transacções de recursos reais. Deve apresentar, ano a ano, todas as origens e aplicações de fundos, discriminando os montantes de cada origem e aplic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inanciament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ção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orçamentos de tesouraria previsiona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que evidenciem a situação de liquidez da exploração do projecto. Deles devem constar todos os recebimentos e pagamentos estimados a partir das previsões de todos os “items” de custos e provei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preciso considerar também a elaboração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lanços previsiona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que se obtêm da conjugação dos estudo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xploraçã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i não só os gastos de exploração anuais com matérias-primas, com mão de obra, etc., mas igualmente os custos devidos ao investimento e ao financiamento (e que se retiram dos estudos relativos ao investimento e ao financiament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partir da determinação previsional dos proveitos e custos de um projecto é possível elaborar orçamentos anuais e plurianuais e extrair resultados potenciais que ajudem a caracterizar a exploração do projecto e a rendibilidade que apresen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çamentos ou map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 tipo plurian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a os benefícios e os custos, em cada um dos anos, ao longo de toda a vida útil do projecto; é adequado para os investimentos com um período de maturação longo (quando há um espaçamento de alguns an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 tipo an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comparação entre benefícios e custos é feita somente para um dos anos do período de pleno desenvolvimento do projecto; pode ser usado nos casos em que o período de maturação dos investimentos é reduzido (dois a três an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çamentos ou map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2104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2700360" y="2830320"/>
            <a:ext cx="1440" cy="249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700360" y="5300640"/>
            <a:ext cx="352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79640" y="2924280"/>
            <a:ext cx="66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U.M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435640" y="5445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mp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V="1">
            <a:off x="2700360" y="3838680"/>
            <a:ext cx="2872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2987640" y="3860640"/>
            <a:ext cx="32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700360" y="4149720"/>
            <a:ext cx="35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156360" y="4221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u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300720" y="37162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enefícios projec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2700360" y="3622320"/>
            <a:ext cx="244800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148360" y="3645000"/>
            <a:ext cx="107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364000" y="328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enefícios projec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71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crifício consubstanciado na troca de satisfação actual – associada ao custo suportado para investir – por satisfação futura – associada aos fluxos financeiros esperados (Soare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2007: 7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 (capital investi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s físicas e financeiras do investiment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apital (ou valor) residual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uração do investi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 (capital investi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ontante monetário que é necessário afectar para implementar o investimento e garantir as adequadas condições de funcionamento das actividades operacionais que lhe estão associadas (Soares </a:t>
            </a:r>
            <a:r>
              <a:rPr b="0" i="1" lang="en-GB" sz="17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, 2007: 76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 física: Capital físico (ou imobilizado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 financeira: Necessidades de fundo de manei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e, "...não só para identificar as diferentes implicações de qualquer projecto de desenvolvimento e para assegurar que as medidas adequadas de controlo venham a ser adoptadas, mas também e sobretudo, como instrumento que garanta que, na tomada de decisões, haja uma clara consciência dos vários efeitos positivos e negativos do projecto" (Vaz, 199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ontante afecto à aquisição ou construção de bens de investimento tangíveis (máquinas, equipamentos, edifícios, etc.) e intangíveis (licenças, etc.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 investimento em capital físico tem lugar no início da vida do projecto, podendo também ocorrer ao longo do mesm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mobilizado Corpóreo - integra todos os bens imobilizados tangíveis, móveis ou imóveis, que a empresa utiliza na sua actividade operacional, que não se destinem a ser vendidos ou transformados, com carácter de permanência e vida útil superior a um ano (ex. terrenos, edifícios e construções, máquinas e equipamentos, ferramentas etc.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mobilizado Incorpóreo - integra os bens intangíveis englobando, nomeadamente, direitos e despesas de constituição, arranque e expansão, trespasses, propriedade industrial e outros direitos, estudos e project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43120"/>
            <a:ext cx="8001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tem de mobilizar meios financeiros para, por exemplo, sustentar o crédito que concede aos clientes ou para constituir existênci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sta aplicação adicional de meios financeiros tem de se manter ao longo da vida do projecto, pelo que as necessidades de fundo de maneio têm o carácter duma verdadeira imobilização, devendo, por isso, fazer parte do custo de investimento (Soares et al, 2007: 84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38080"/>
            <a:ext cx="8001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adquire mercadorias ou matérias que não vende ou consome de imediato e que ficam imobilizadas durante um determinado período de tempo; depois tem de manter em permanência stocks mínimos (ou de seguranç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não recebe logo o pagamento das vendas que efectua, tendo de conceder crédito aos clientes; a prazo, um determinado montante de crédito está sempre a ser concedido pela empresa (é também uma imobilização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38080"/>
            <a:ext cx="8001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o mesmo tempo, a empresa não paga de imediato todas as compras que realiza; beneficia, assim, dum crédito concedido pelos fornecedores (financiamento feito à empresa por estes); a prazo, dispõe dum crédito que manterá em permanênc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619280"/>
            <a:ext cx="8001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omponentes das NFM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NFM =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xistências + Clientes – Fornecedores + Reserva de 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esouraria + ou - Est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Volume de existências: prazo médio de existências (PME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Reserva de tesoura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omponentes das NFM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rédito concedido aos clientes: prazo médio de recebimentos  (PMR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rédito obtido dos fornecedores: prazo médio de pagamentos  (PMP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stado: prazos de pagamento de IVA, IRS e TSU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orque os projectos têm valor resid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eríodo de vida útil (ou duração) do projecto raramente coincide com a duração (ou vida útil) dos principais investimentos; determinados bens de investimento (imobilizações) como construções ou certos equipamentos têm, por essa altura, ainda valo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 NFM podem ser recuperad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exploração do projecto pode ter originado efeitos negativos no ambiente e na paisagem que terão de ser corrigi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valor residual do projecto inclu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valor dos activos (imobilizações) no fim da duração do projecto; é um proveito e uma entrada suplementar de fundos no último ano de vida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NFM; são uma entrada ou saída de fundos consoante o seu valor é positivo ou negati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visão e contro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que acompanha o período de vida útil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p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é feita no final do período de vida útil do projecto, tendo importância decisiva para a reestruturação, expansão do projecto ou novas ideias de investim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O valor residual do projecto inclu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rrecção dos efeitos negativos no ambiente e na paisagem quando há uma responsabilidade financeira associada; é um custo e uma saída de fundos no fim da vida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entuais impostos (IRC) sobre as mais valias da alienação de imobilizações; é uma saída de fun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Duração do 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duração do período em que o investimento gera benefícios líquidos positivos é uma variável muito importante na análise, uma vez que condiciona a rendibilidade do project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É o número de períodos (anos) em que se considera que a exploração do projecto é viável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É o número de períodos para os quais se determinam os fluxos previsionais de proveitos e custo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definir a duração dum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física (vida útil) dos bens de investimento principai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obsolescência ou duração económica dos bens de investimento principai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contabilística, ou seja, pelos períodos de amortização mínimos definidos pela administração fisc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da aceitação dos bens e serviços produzidos no mercado ou duração da vida do produ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definir a duração dum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económica e da vida do produto são as que condicionam o período de dur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a considerar para o projecto será a duração económica se esta for inferior à duração da vida do produ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a considerar para o projecto será a duração da vida do produto se esta for inferior à duração económ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3520" indent="-810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contabilíst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perda de valor sofrida pelos activos imobilizados em cada exercíc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económ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repartição do custo das imobilizações pelos diversos exercícios em que elas são us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3520" indent="-810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financei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necessidade de garantir que quando determinada imobilização chegue ao fim da sua vida útil, estejam disponíveis na empresa os recursos financeiros necessários para a substitui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contabilizados não correspondem a desembolsos efectivos, pelo que os fundos retidos possibilitam a substituição dos imobilizados que chegam ao fim da sua vida útil por outros de características semelhantes (em economias não inflacionada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valores devem ser calculados considerando em cada rubrica as taxas máximas de amortização admitidas como custos fis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ão amortizáveis os bens imobilizados que não são considerados perpétuos, ou seja, que estão sujeitos a depreciações progressivas devido ao uso e ao tempo e que têm uma vida útil fini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emonstração de resultados (D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a os proveitos e custos previsionais ocorridos ao longo de um determinado período de tempo (trimestre, semestre ou ano). A diferença entre os proveitos e os custos constituirá o resultado líquido (ou lucro) da empresa durante o período consider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mite determinar a capacidade que o projecto tem para gerar resultados positivos ou negativos, período a período ( rendibilidade líquida positiva ou negativa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emonstração de resultados (D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flecte a parte real ou produtiva (económica) da empres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s fluxos financeiros a usar na decisão baseiam-se no resultado líquido prevision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mpresari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a ou das entidades directamente responsáveis, em função dos objectivos de natureza empresarial ou privada por elas visados. A análise é chamada de empresarial ou financei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rutura e  resultados principais da D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operacional, ou seja, o resultado gerado pela actividade principal da empresa. É obtido pela diferença entre as vendas da empresa e os custos operacionais (compra de mercadorias e matérias-primas, salários e encargos, custos gerais de produção e amortização do imobilizad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financeiro, que resulta da diferença entre proveitos e custos de natureza essencialmente financeira (juros pagos e recebidos, descontos de pronto pagamento obtidos e concedidos, rendimentos e encargos de participações de capital, etc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rutura e  resultados principais da D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extraordinário que abrange os custos e proveitos com um carácter inesperado (sinistros, multas, dívidas incobráveis ou recuperadas, etc.) ou meramente pontual (por exemplo, as mais ou menos valias resultantes da alienação de componentes do activo imobilizad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líquido (RL), que resulta da soma algébrica das três componentes anteriores, deduzida do IRC. O Resultado Líquido faz a ligação entre Demonstração de Resultados e Balanço, sendo também incluído nesse últim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a DR (proveit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vendas de produtos e mercadori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prestações de serviç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ubsídios recebidos destinados à explor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suplementares e outras receitas (de actividades que não constituem o objectivo da empres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financeiras correntes (juros de depósitos à ordem, descontos obtid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aplicações financeiras (juros de obrigações, dividendos de acçõe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Utilização de provisõ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a DR (cust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compras e consumos de matérias-primas, subsidiárias e de consumo, mercadorias e embalagens (CMVMC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fornecimentos e serviços externos (FS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pessoal (remunerações, ordenados, salários, encargos sociais, seguros, subsídio de alimentação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impostos (directos e indirect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financeiros (juros, descontos, serviços bancários prestado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utros custos e encargos (oferta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mortizações e reintegrações (do imobilizado e dos custos plurianuai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visõ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roveitos, Vendas e Prestações de Serviç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ço unitário - indicar, para cada um dos produtos/serviços que a empresa irá vender, qual o seu preço unitário de ven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antidades Vendidas - indicar quais os produtos/serviços que se espera vender (em quantidades) no primeiro ano de actividade e seguin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ara se projectar as vendas para os anos seguintes ao primeiro ano, deve ter-se em conta as taxas de crescimento esperadas do preço unitário e das quant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ornecimentos e Serviços Ex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ão serviços prestados por entidades externas à empresa no âmbito da sua actividade normal (energia eléctrica, combustíveis, seguros, rendas, água, comunicações, etc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necessário antever qual o custo médio mensal que a empresa prevê vir a ter com cada uma dessas despesas (valores sem IVA pois o IVA não é um custo para a empre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ornecimentos e Serviços Ex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cálculo dos valores anuais é efectuado tendo em conta o número de meses de exploração e a taxa de crescimento dos preços (ou inflaçã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á duas categorias: aqueles que são estruturais e não dependem da actividade da empresa (custos fixos) e os que são função da actividade da empresa (custos variávei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ustos com o Pesso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finir o pessoal necessário (quadro de colaboradores) para a empresa laborar e quais as suas remunerações brutas mensais para cada categoria profission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tender ao incremento anual dos salários para cada ano (taxa de crescimento dos Salári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ém do vencimento há outros custos para a empresa associados ao trabalho: segurança social, seguros de acidentes de trabalho, subsídio de alimentação, higiene e segurança no trabalho, etc.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ustos com o Pesso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gurança Social - a taxa de segurança social que a empresa pagará sobre as remunerações é de 23,75 % (trabalhadores) ou 21,25% (gerênci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guro de Acidentes de Trabalho - o custo representa, em média, 1 a 2,5 % da massa salari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enções de Colaboradores - os valores são calculados com base na taxa de 11% para o trabalhador; a retenção de IRS varia consoante o rendimento do trabalh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280" y="175068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gestão da tesouraria consiste no conjunto de medidas, instrumentos e técnicas que visam assegurar que a empresa disponha, em diversos momentos, de recursos financeiros suficientes para satisfazer os seus compromissos de curt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o conjunto dos agentes económicos e sociais que integram a colectividade, em função de objectivos de natureza económica (por exemplo eficiência de utilização de recursos ou substituição de importações) e social (equidade na distribuição de rendimentos, protecção do ambiente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necessidade de uma gestão de tesouraria cuidada e rigorosa advém de dois aspectos fundamenta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2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 despesas e as receitas das empresas tendem a ocorrer em momentos distin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2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ão existe uma coincidência temporal entre o momento da concretização da compra/venda e o do respectivo pagamento/recebi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r estes dois motivos pode acontecer que uma empresa lucrativa, aparentemente viável a médio e longo prazo, possa ter dificuldade em saldar as suas dívidas de curto praz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75068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tes mapas mostram a capacidade do projecto para gerar os meios financeiros necessários ao seu financia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mapa de tesouraria previsional efectuam-se os registos de todos os pagamentos e recebimentos previs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enas se devem registar os valores que saem ou que entram nos períodos em que realmente se espera que ocorram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regra do equilíbrio financeiro deve ser sempre respeitada: as necessidades financeiras de médio e longo prazo, como sejam os investimentos em capital fixo, devem ser financiadas no médio e longo prazo; as necessidades de curto prazo devem, pelo contrário, ser financiadas no curt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á várias fontes de financiamento a considerar: capitais próprios, empréstimos de sócios, meios libertos pelo próprio projecto (auto-financiamento), subsídios ao investimento, empréstimos bancários , leasing entre outr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0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0960" indent="-5684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Balanç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0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a geral da empresa na qual estão reunidos todos os elementos patrimoniais daquela e onde se evidencia a situação líquida por diferença entre o activo e o passivo (a situação patrimoni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ressão da relação existente entre o activo, o passivo e a situação líqui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m “fotográfica” da posição financeira global da empresa (Soar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2700360" y="3213000"/>
            <a:ext cx="338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84360" y="4581360"/>
            <a:ext cx="187164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826920" y="472428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B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763640" y="3068640"/>
            <a:ext cx="2448000" cy="792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050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68360" y="2133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Classes de Elementos Patrimoni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2987640" y="4581360"/>
            <a:ext cx="208908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987640" y="47242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Dir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651640" y="3068640"/>
            <a:ext cx="2447640" cy="792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572436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828800" y="3933720"/>
            <a:ext cx="5889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3562200" y="3933720"/>
            <a:ext cx="57816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084720" y="4581360"/>
            <a:ext cx="187200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227640" y="4724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Obrigaçõ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7020000" y="3933720"/>
            <a:ext cx="144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681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66"/>
                </a:solidFill>
                <a:latin typeface="Verdana"/>
              </a:rPr>
              <a:t>Classes de Elementos Patrimoni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8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njunto de valores que se possui ou se tem a receber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njunto de valores a pagar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0960" indent="-568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cc66"/>
                </a:solidFill>
                <a:latin typeface="Verdana"/>
              </a:rPr>
              <a:t>Patrimón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5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ituem bens da empresa os edifícios, as máquinas, as mercadorias, o dinheiro em caixa, os depósitos, as ferramentas, os animais, a terra, as plantações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direitos são o conjunto de dívidas a receber por parte da empres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obrigações representam o conjunto de dívidas a pagar pela empresa a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65200" indent="-565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cc66"/>
                </a:solidFill>
                <a:latin typeface="Verdana"/>
              </a:rPr>
              <a:t>Equação fundamental da contabi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65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o = Passivo + Situação líquida ac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Situação líquida pass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factos patrimoniais, alterando o património, afectam os elementos da equação fundamental, mas nunca a igualdade entre os dois membros dessa equação, uma vez que a cada aplicação de fundos terá de corresponder sempre uma ori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700360" y="3213000"/>
            <a:ext cx="338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19640" y="2565360"/>
            <a:ext cx="1871640" cy="6476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63528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84360" y="2565360"/>
            <a:ext cx="1871640" cy="6476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755640" y="2708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084720" y="2492280"/>
            <a:ext cx="2448000" cy="7923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227640" y="256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ituação líquida 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2830680" y="26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020200" y="2637000"/>
            <a:ext cx="12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2484360" y="1989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Situação líquida 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84360" y="4508640"/>
            <a:ext cx="1871640" cy="6476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755640" y="465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771640" y="458136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3348000" y="4508640"/>
            <a:ext cx="1871640" cy="6476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56400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5020200" y="4581360"/>
            <a:ext cx="12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6156360" y="4437000"/>
            <a:ext cx="2448000" cy="7923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300720" y="4508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ituação líquida neg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627280" y="4005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Situação líquida pas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activ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mobilizado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mobilizado (corpóreo, incorpóreo e investimentos financeir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mortizações acumul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rculante (activo disponível e realizável)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xistências (de produtos, mercadorias e materiais consumid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ívidas de terceiros de médio e longo praz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ívidas de terceiros de curto praz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s (depósitos bancários, caixa, títulos negociáve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e projectos segundo esta perspectiva é normalmente chamada, consoante os casos, de análise de eficiência económica, análise de equidade social, análise de impacto ambiental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situação líquida/capital própri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pital Soci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erv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s transitad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líquido do exercíci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videndos antecipa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passiv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ívidas a terceiros de médio e long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ívidas a terceiros de curto praz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empresar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assegurar não só a completa recuperação dos capitais investidos, como para criar um rendimento financeiro adicional suficiente para cobrir os juros de capital (próprios e alheios) e remunerar ainda a actividade de direcção do empresário e o risco que assu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nacion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contribuir para a prossecução de objectivos nacionais bem defini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basicamente determinada pelo valor acrescentado que o projecto gera ao longo do seu período de vida útil. As remunerações do trabalho, os juros, as rendas e os impostos são benefícios do projecto que têm repercussões a um nível mais alargado (social ou da colectividade) que os simples lucros líquido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perador</cp:lastModifiedBy>
  <dcterms:modified xsi:type="dcterms:W3CDTF">2008-04-22T09:21:01Z</dcterms:modified>
  <cp:revision>3</cp:revision>
  <dc:subject/>
  <dc:title>Introdução às Políticas Agrárias</dc:title>
</cp:coreProperties>
</file>